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24.wmf" ContentType="image/x-wmf"/>
  <Override PartName="/ppt/media/image21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013-E89D-42AF-A474-D080C32F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69A-C098-455E-8C90-E28F6349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D22-08BC-44B2-BCC1-4A677C3F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98B-335D-4CF0-B551-C29F2EBB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9A1A-D0D9-4424-81AE-3E81D0C2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3641-ADED-4992-84F7-4902305D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DD5A-5ECB-457D-ACD8-951EA5B8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B512-9969-44E1-AD6A-0471C37B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901D-64D8-4E44-A59D-2EB8D143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5585-9AD9-4AE9-BBC8-76F5E8F9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0358-1AD7-4C30-AFD1-243EAB87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CA6-3905-4432-8D0E-A45E8E95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13CA-5606-40AD-B22C-D8DCEF6C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FEE3-1D54-4E39-AE4C-18D956C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E3DD-0B30-4FEB-A575-D20D4D64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AE70-4AE1-4033-B062-3BA45ECF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B7E9-88C9-47AF-9E2E-5CDE4307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B56-5655-4647-AE64-D91F3E98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B7C-0D22-45D2-8A09-D5E294B9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D93-5AB6-40F9-96B7-CCD95607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E93-0941-42E2-99FC-7A7A82E0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F6B-6B9C-42DB-BA3E-A43CDF8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82F-191C-4CC7-82FB-360111F6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AB4-8691-43AD-B7E9-1C867AB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53AB-9CDB-4C1A-8FE5-193C9A97CC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38E4-4455-41C7-BC6B-56E50771C8A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6big"/>
          <p:cNvPicPr/>
          <p:nvPr/>
        </p:nvPicPr>
        <p:blipFill>
          <a:blip r:embed="rId1"/>
          <a:stretch/>
        </p:blipFill>
        <p:spPr>
          <a:xfrm>
            <a:off x="4716360" y="260280"/>
            <a:ext cx="3961080" cy="3960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348000" y="4723920"/>
            <a:ext cx="5572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Автор: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Игнатова Анастасия,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студентка 143 группы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395280" y="1268280"/>
            <a:ext cx="70675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лобальное потепление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8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ольфстрим потечет в другую сторо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5" descr=" "/>
          <p:cNvPicPr/>
          <p:nvPr/>
        </p:nvPicPr>
        <p:blipFill>
          <a:blip r:embed="rId2"/>
          <a:stretch/>
        </p:blipFill>
        <p:spPr>
          <a:xfrm>
            <a:off x="4716360" y="1413000"/>
            <a:ext cx="3954600" cy="2886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?id=4219361&amp;tov=8"/>
          <p:cNvPicPr/>
          <p:nvPr/>
        </p:nvPicPr>
        <p:blipFill>
          <a:blip r:embed="rId3"/>
          <a:stretch/>
        </p:blipFill>
        <p:spPr>
          <a:xfrm>
            <a:off x="539640" y="2708280"/>
            <a:ext cx="4370400" cy="39132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360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Если ледники растают, то к концу нынешнего века уровень Мирового океана поднимется на 1 метр. Вода затопит многие прибрежные регионы и, возможно, будет сдерживать Гольфстрим, который приносит теплую воду и формирует погоду в Cеверной Европ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о мере таяния арктического льда темп глобального потепления будет нарастать. Так как лед отражает большую часть солнечного тепла обратно в космос, меньший ледяной покров будет означать, что земля будет абсорбировать больше тепл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9" descr="arktika_12"/>
          <p:cNvPicPr/>
          <p:nvPr/>
        </p:nvPicPr>
        <p:blipFill>
          <a:blip r:embed="rId1"/>
          <a:stretch/>
        </p:blipFill>
        <p:spPr>
          <a:xfrm>
            <a:off x="0" y="333360"/>
            <a:ext cx="4870440" cy="367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rktika_7"/>
          <p:cNvPicPr/>
          <p:nvPr/>
        </p:nvPicPr>
        <p:blipFill>
          <a:blip r:embed="rId2"/>
          <a:stretch/>
        </p:blipFill>
        <p:spPr>
          <a:xfrm>
            <a:off x="4230720" y="765000"/>
            <a:ext cx="4913280" cy="532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alt"/>
          <p:cNvPicPr/>
          <p:nvPr/>
        </p:nvPicPr>
        <p:blipFill>
          <a:blip r:embed="rId3"/>
          <a:stretch/>
        </p:blipFill>
        <p:spPr>
          <a:xfrm>
            <a:off x="250920" y="2276640"/>
            <a:ext cx="5761080" cy="43210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628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асения ученых по поводу того, что глобальное потепление может привести к сильному похолоданию, возникали уже не раз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мнению исследователей, 50 млн. лет назад северные моря были теплее на 10°С, но затем начали охлаждаться, что привело к оледенению            3 млн. лет наза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ные хотят выяснить, как сток пресных вод от таяния ледников влияет на зарождающиеся на севере глубоководные течения, которые, в свою очередь, влияют на климат Земл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ые смелые теории утверждают, что из-за продолжающегося глобального потепления в далеком будущем льды могут совсем растаять. Из-за этого ослабеют течения, что приведет уже к охлаждению климата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312200" y="333360"/>
            <a:ext cx="65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Verdana"/>
              </a:rPr>
              <a:t>А может быть замерзне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450"/>
                            </p:stCondLst>
                            <p:childTnLst>
                              <p:par>
                                <p:cTn id="4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450"/>
                            </p:stCondLst>
                            <p:childTnLst>
                              <p:par>
                                <p:cTn id="4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450"/>
                            </p:stCondLst>
                            <p:childTnLst>
                              <p:par>
                                <p:cTn id="4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450"/>
                            </p:stCondLst>
                            <p:childTnLst>
                              <p:par>
                                <p:cTn id="4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450"/>
                            </p:stCondLst>
                            <p:childTnLst>
                              <p:par>
                                <p:cTn id="4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450"/>
                            </p:stCondLst>
                            <p:childTnLst>
                              <p:par>
                                <p:cTn id="4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450"/>
                            </p:stCondLst>
                            <p:childTnLst>
                              <p:par>
                                <p:cTn id="4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учив несколько гипотез, мы пришли к выводу, что наибольшей правдоподобностью обладает теория о постепенном таянии ледников, остывании теплого течения Гольф-стрим и, в результате, похолод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Неужели замерзнем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4" descr="j0078714"/>
          <p:cNvPicPr/>
          <p:nvPr/>
        </p:nvPicPr>
        <p:blipFill>
          <a:blip r:embed="rId1"/>
          <a:stretch/>
        </p:blipFill>
        <p:spPr>
          <a:xfrm>
            <a:off x="0" y="0"/>
            <a:ext cx="1471680" cy="2766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j0078832"/>
          <p:cNvPicPr/>
          <p:nvPr/>
        </p:nvPicPr>
        <p:blipFill>
          <a:blip r:embed="rId2"/>
          <a:stretch/>
        </p:blipFill>
        <p:spPr>
          <a:xfrm>
            <a:off x="6084720" y="4508640"/>
            <a:ext cx="1795680" cy="192240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информац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Verdana"/>
              </a:rPr>
              <a:t>http://lenta.ru/science/2004/05/18/arctic/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Verdana"/>
              </a:rPr>
              <a:t>http://www.utro.ru/articles/2004/11/12/373282.shtm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Verdana"/>
              </a:rPr>
              <a:t>http://www.worldwarming.info/article7.htm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cc"/>
                </a:solidFill>
                <a:uFillTx/>
                <a:latin typeface="Verdana"/>
              </a:rPr>
              <a:t>http://www.utro.ru/articles/2004/11/02/369410.shtm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уда пойде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апы исслед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может быть болото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угой сцена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может быть и мор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льфстри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может быть замерзнем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j0078770"/>
          <p:cNvPicPr/>
          <p:nvPr/>
        </p:nvPicPr>
        <p:blipFill>
          <a:blip r:embed="rId1"/>
          <a:stretch/>
        </p:blipFill>
        <p:spPr>
          <a:xfrm>
            <a:off x="5435640" y="4221000"/>
            <a:ext cx="3376440" cy="220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j0078753"/>
          <p:cNvPicPr/>
          <p:nvPr/>
        </p:nvPicPr>
        <p:blipFill>
          <a:blip r:embed="rId2"/>
          <a:stretch/>
        </p:blipFill>
        <p:spPr>
          <a:xfrm>
            <a:off x="468360" y="62064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сследовать различные гипотезы, выдвигаемые учеными о глобальном потеплен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91960" y="476280"/>
            <a:ext cx="3149280" cy="5814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Цель проект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445480" y="3141720"/>
            <a:ext cx="4444920" cy="45972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Verdana"/>
              </a:rPr>
              <a:t>Основополагающий вопро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77164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95280" y="436572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К чему привед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глобальное потеплени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1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100"/>
                            </p:stCondLst>
                            <p:childTnLst>
                              <p:par>
                                <p:cTn id="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1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750"/>
                            </p:stCondLst>
                            <p:childTnLst>
                              <p:par>
                                <p:cTn id="1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Этапы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Picture 4" descr="j0078701"/>
          <p:cNvPicPr/>
          <p:nvPr/>
        </p:nvPicPr>
        <p:blipFill>
          <a:blip r:embed="rId1"/>
          <a:stretch/>
        </p:blipFill>
        <p:spPr>
          <a:xfrm>
            <a:off x="6912000" y="2776680"/>
            <a:ext cx="2232000" cy="4081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13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Найти несколько гипотез ученых на тему глобального потепления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Выявить из них самые правдоподобные и научно-обоснованные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зучить гипотезы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Определить наиболее вероятное развитие глобального потепления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8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8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8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8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8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Ученые уже не первый год спорят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5" descr="703big"/>
          <p:cNvPicPr/>
          <p:nvPr/>
        </p:nvPicPr>
        <p:blipFill>
          <a:blip r:embed="rId1"/>
          <a:stretch/>
        </p:blipFill>
        <p:spPr>
          <a:xfrm>
            <a:off x="5076720" y="1557360"/>
            <a:ext cx="3832200" cy="383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Земля 222, фото Земля 222"/>
          <p:cNvPicPr/>
          <p:nvPr/>
        </p:nvPicPr>
        <p:blipFill>
          <a:blip r:embed="rId2"/>
          <a:stretch/>
        </p:blipFill>
        <p:spPr>
          <a:xfrm>
            <a:off x="395280" y="3141720"/>
            <a:ext cx="4968720" cy="3516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5843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том, что принесет с собой глобальное потепление - какие регионы планеты через сто лет превратятся в жаркую пустыню, а какие будут покрыты льдом.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25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25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final_IMG_497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4392720" cy="4276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16360" y="907920"/>
            <a:ext cx="4176720" cy="482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ригинальный, хотя и мрачный прогноз предло-жил московский профес-сор Геннадий Бельчанс-кий, заведующий лабо-раторией космического мониторинга арктических экосистем Института проб-лем экологии и эволюции им.А.Н.Северцова. Данные, собранные его лабораторией, говорят о том, что через несколько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5589360"/>
            <a:ext cx="8496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десятилетий весь север России будет представлять собой одно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большое болото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826920" y="131760"/>
            <a:ext cx="71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Verdana"/>
              </a:rPr>
              <a:t>А может быть болото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2" descr="j0078800"/>
          <p:cNvPicPr/>
          <p:nvPr/>
        </p:nvPicPr>
        <p:blipFill>
          <a:blip r:embed="rId3"/>
          <a:stretch/>
        </p:blipFill>
        <p:spPr>
          <a:xfrm>
            <a:off x="250920" y="2708280"/>
            <a:ext cx="3576600" cy="256716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Зеленый мох болота"/>
          <p:cNvPicPr/>
          <p:nvPr/>
        </p:nvPicPr>
        <p:blipFill>
          <a:blip r:embed="rId1"/>
          <a:stretch/>
        </p:blipFill>
        <p:spPr>
          <a:xfrm>
            <a:off x="468360" y="404640"/>
            <a:ext cx="4711680" cy="576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На болоте - деревня болото шустиково природа фото фотосайт"/>
          <p:cNvPicPr/>
          <p:nvPr/>
        </p:nvPicPr>
        <p:blipFill>
          <a:blip r:embed="rId2"/>
          <a:stretch/>
        </p:blipFill>
        <p:spPr>
          <a:xfrm>
            <a:off x="3203640" y="234936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7354800" cy="453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ессор пояснил, что вечная мерзлота в Сибири из-за изменения климата понемногу тает. Ежегодно ее температура повышается в среднем на 0,5°С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тенденция не изменится, то через пару десятков лет некогда твердая почва превратится в трясину. А ведь вечномерзлая земля - это 65% территории нашей стран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сятки городов, построенные на ней, просто утонут. Невозможно станет добывать богатейшие природные ресурсы севера - от нефти и газа до древесины. На болоте и буровую установку не построишь, да и леса там расти не смогу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Другой сценарий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Picture 4" descr="720big"/>
          <p:cNvPicPr/>
          <p:nvPr/>
        </p:nvPicPr>
        <p:blipFill>
          <a:blip r:embed="rId1"/>
          <a:stretch/>
        </p:blipFill>
        <p:spPr>
          <a:xfrm>
            <a:off x="4643280" y="1125360"/>
            <a:ext cx="4321440" cy="424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721big"/>
          <p:cNvPicPr/>
          <p:nvPr/>
        </p:nvPicPr>
        <p:blipFill>
          <a:blip r:embed="rId2"/>
          <a:stretch/>
        </p:blipFill>
        <p:spPr>
          <a:xfrm>
            <a:off x="611280" y="2997360"/>
            <a:ext cx="4174920" cy="361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j0078822"/>
          <p:cNvPicPr/>
          <p:nvPr/>
        </p:nvPicPr>
        <p:blipFill>
          <a:blip r:embed="rId3"/>
          <a:stretch/>
        </p:blipFill>
        <p:spPr>
          <a:xfrm>
            <a:off x="6114960" y="4387680"/>
            <a:ext cx="3029040" cy="24703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Verdana"/>
              </a:rPr>
              <a:t>климатической катастрофы представил Международный научный комитет по Арктике и межправительственный Арктический совет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Verdana"/>
              </a:rPr>
              <a:t>В документе под названием "Оценка климатического воздействия на Арктику" 250 ведущих ученых мира предсказывают, что к 2070 г. северная полярная шапка Земли полностью растает. Из-за этого уровень воды в Мировом океане поднимется на целый метр, и бесчисленные квадратные километры суши окажутся затопленны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final_IMG_0065"/>
          <p:cNvPicPr/>
          <p:nvPr/>
        </p:nvPicPr>
        <p:blipFill>
          <a:blip r:embed="rId1"/>
          <a:stretch/>
        </p:blipFill>
        <p:spPr>
          <a:xfrm>
            <a:off x="468360" y="476280"/>
            <a:ext cx="8373960" cy="5788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3744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подводные города превратятся почти все европейские столицы, включая Лондон, Париж, Берлин и Мадрид, крупнейшие города США - Вашингтон и Нью-Йорк - и значительная часть территории России, включая Петербур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то Северный морской путь будет открыт для судоходства круглый год - было бы для чего по нему плавать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957320" y="62064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Verdana"/>
              </a:rPr>
              <a:t>А может быть и море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9" descr="j0078781"/>
          <p:cNvPicPr/>
          <p:nvPr/>
        </p:nvPicPr>
        <p:blipFill>
          <a:blip r:embed="rId2"/>
          <a:stretch/>
        </p:blipFill>
        <p:spPr>
          <a:xfrm>
            <a:off x="4500720" y="4991040"/>
            <a:ext cx="3816360" cy="163368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4:43:20Z</dcterms:created>
  <dc:creator/>
  <dc:description/>
  <dc:language>en-US</dc:language>
  <cp:lastModifiedBy>Nabster</cp:lastModifiedBy>
  <dcterms:modified xsi:type="dcterms:W3CDTF">2010-06-02T19:58:35Z</dcterms:modified>
  <cp:revision>47</cp:revision>
  <dc:subject/>
  <dc:title>Слайд 1</dc:title>
</cp:coreProperties>
</file>